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2.gif" ContentType="image/gif"/>
  <Override PartName="/ppt/media/image24.jpeg" ContentType="image/jpeg"/>
  <Override PartName="/ppt/media/image9.gif" ContentType="image/gif"/>
  <Override PartName="/ppt/media/image11.jpeg" ContentType="image/jpeg"/>
  <Override PartName="/ppt/media/image8.png" ContentType="image/png"/>
  <Override PartName="/ppt/media/image5.gif" ContentType="image/gif"/>
  <Override PartName="/ppt/media/image14.jpeg" ContentType="image/jpeg"/>
  <Override PartName="/ppt/media/image6.jpeg" ContentType="image/jpeg"/>
  <Override PartName="/ppt/media/image10.gif" ContentType="image/gif"/>
  <Override PartName="/ppt/media/image13.gif" ContentType="image/gif"/>
  <Override PartName="/ppt/media/image16.jpeg" ContentType="image/jpeg"/>
  <Override PartName="/ppt/media/image23.jpeg" ContentType="image/jpeg"/>
  <Override PartName="/ppt/media/image18.jpeg" ContentType="image/jpeg"/>
  <Override PartName="/ppt/media/image3.gif" ContentType="image/gif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.gif" ContentType="image/gif"/>
  <Override PartName="/ppt/media/image7.jpeg" ContentType="image/jpe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B40D8-8830-4D65-923E-4EBF499E588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итуация 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вочка возмущенно жаловалась маме: “Во дворе есть такой плохой мальчик – все время зовет меня Валькой”. “А ты как его зовешь?” – спросила мама. “Я его вообще никак не зову. Я ему просто кричу: “Эй, ты!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ли была девочка?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итуация 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вочка возмущенно жаловалась маме: “Во дворе есть такой плохой мальчик – все время зовет меня Валькой”. “А ты как его зовешь?” – спросила мама. “Я его вообще никак не зову. Я ему просто кричу: “Эй, ты!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ли была девочка?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289B0-B7E0-41F1-96E1-1D1FE13E7C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BEB9-22CD-40D6-9163-05DDD2903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9550-2C6E-4DF4-B040-5BD65E2AA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B36652-1438-4040-B914-10AB082FB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CDBB85-820D-42B2-B381-AD08466F9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2E5D39-DB5E-46CA-86ED-5BE8F952A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B91052-8FD4-43FF-BDBA-A3D51174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0A7CE5-5624-4E7C-9754-6E72308C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C61995-9EEB-4717-9483-22607AC0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1C6ACB-CB4E-4376-A889-503F17BB3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E65DF3-8855-4450-8D50-5B4D3AD27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778A4E-B1CA-42D9-8699-DE73B7DC6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7C8DEF0-5970-4185-B65F-1013D1D65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395A-B6FA-44B0-A994-A280E2E3F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6DCE5D7-92D2-4FD4-9755-DDAA7EB31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E135732-B49F-41D8-AB64-B17545255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E5ED432-1C74-4F65-A6FC-6021BCECB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1D1DF41-4AB5-4BDE-B771-1BA8F4494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6AB83D0-B445-49A9-AB67-EEE160127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E66E63E-F26A-4941-A058-26A9FCFA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158E2E3-606A-4C15-A17B-6BEC3CB5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8D5DAFA-D3C8-42D5-ACD3-200C0F64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E12D5E6-FF7A-4CAB-B5FD-32526F8B8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3FA9834-D448-44F8-820F-ACC9BAC44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9BF8-4DB2-4ECC-92BA-CEF0A4B5E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783E339-0047-41E2-9306-D1C35F0E5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A75C7-3256-4BFE-837E-E80D18DDF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53329-3BB9-49FE-9D70-39F1E03FB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C70BB-430B-4E7F-BBD7-16A8BEC3B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92A30-25C3-45C2-B77C-689C67BD0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EAA51-623C-4F31-BDBA-0C1F02AE2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42961-9FC5-446C-9417-90CB77DF2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C898D-118C-49A6-A4FC-8FB624C0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9034-FC7C-4DB3-9B45-1707EC1B6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CCDE8-3B49-4A2D-B6F8-D57C5430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53B95-CAAD-404F-8FDB-08893679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1636E-3211-4D13-BBB2-7659E9E50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AE9A3-EB27-4653-BCE8-70B14A571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C21B5-8BAE-4DB0-910A-0B1A00F78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C40787-C0EE-4FAD-8E3D-050C0BDC5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311072-D831-42FC-8D20-CA4148B3A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55775B-85D3-48C5-8D00-0C1E5BFC0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DD172C-C1CD-4E4B-A148-D7D7615E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EA95A8-D30A-46D4-92B0-F34AF9A34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DF30-7E91-4907-B7F1-316919CEB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E95F25-A6D5-4FB3-A795-DB481BBDF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44C87F-914E-4B31-B59F-C6742846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E27D27-1804-49A5-828F-2A0EE105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AB504C-8E03-4A59-9875-56D4EEF7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CDC8B3-3060-4F31-BB5E-57618288B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DBBBE9-3A24-463B-AD22-C5647EDDA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87AC20-6761-49D5-8D52-9B48A7E59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5D092-F5FE-4058-B318-4A9042089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C212F-699B-4FE8-A419-C802B51DE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E0015-A6F4-4D20-A493-48EA6065C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BD5C-2FBC-4A3D-9DDB-B17827969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90DB9-6B7B-47F4-A400-8AE7BD01D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A4C01-5D7F-4B58-9744-0428FC898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FBB61-1C81-4A7F-9ED3-B3DC9FAED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A8F52-41E6-4549-90AF-99D3F88D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0853D-D0E2-4D38-9D7E-78C67EA9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1B40A-F19D-403B-85A2-39FFA08C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79827-F5D9-44CC-854B-598FB1986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00BF1-D78B-450B-A72D-F7BEDDD0A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16C2A-4189-49F3-B893-D85601004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4D1800-E56C-41E5-8027-5603F342D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85AD-50D9-4199-83E4-74AA20715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37A22C-9A36-4589-85AC-B6BD4D396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B1017E-8F5F-4A9B-AAD6-D15EFCFB7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978A15-BB7C-4AD1-B288-67B5745A2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EDD133-C61F-4F69-A7D5-CBFB70A8D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8D5771-EDFA-44E5-BDA5-94E38FBE6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95AF03-8D87-4248-9F3B-71A92F0B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DC7E7D-FF45-4A72-BAB3-D1F54530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ED6F25-2803-4768-906D-09C6020A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8BE1D7-C22F-44AC-9F89-66B3E9C00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C1C4A5-F1CF-4F4F-ABD5-C1CFF7FC6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A1C9-69FB-499A-AB07-EAAF8087A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4C1376-2A6F-4D3F-9C31-798881CEC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95FB99-47EA-4E62-B227-BEB1B7B23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D19076-22C6-4634-B779-5E05ACA88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872BBC-5491-400E-8267-2FE9CC5F2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39BBF2-2885-414D-95F8-D013600C3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50F739-4451-4900-801B-4C6599672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B883F7-61CC-4F78-97CB-F138055C5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096EFB-B913-48DB-BF62-BD3893E1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E031D4-49CF-40B5-B606-03991E15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DCDC42-0B8F-4AA3-B08C-69A3E1D2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DD8A-73C0-467B-B8A4-2D823974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11C206-49AA-43AB-B2C7-47E98C3F0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D201FB-99DA-42DB-81BE-A474189EC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6B4120-2AAB-492B-A0B8-9CCAF14B6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909D71-A25A-4E68-AB77-C51515DA6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81FD9F-3E2D-46B1-917D-E13617F7A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C961B8-B596-440A-B3FB-B1D4AF168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FACB7C-E3F6-4E1C-9259-BCFE65028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C62754-1D06-40FC-B8B8-E9ACC428C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FDD424-B126-45A4-B70A-52B1A05E4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5A70E0-DB76-4ECD-92F4-94302C47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2B9D-0648-4AAA-A383-B14D4164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0326A7-75BF-4317-ADB9-E12C0D13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E1893F-A5E2-4265-883E-5B575841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8E4939-67C1-4DA1-9C31-E6B5085B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2ABDD7-28A5-46A9-8BE6-6BAB2D283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C3C268-35E0-4ED7-8120-04D9AEBFC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79251F-3953-4807-94D2-70792A1FF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960493-9ADC-4B9D-9F42-6C341C503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A206F8-C41E-46EC-8DA8-BC2B526A0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DCB60B-F1FD-4BDE-9247-CFD9FD566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16F53D-9018-44BB-B19A-539C5B6EC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0D69-358C-4E2F-AECE-D5F8BF52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C20FC2-518B-479F-9EC9-15883B7A7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B90855-9D35-488D-B832-9AAF22B5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32CA95-61F4-4962-8532-D2DECEE0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7A1136-103A-4976-A3A9-CE289560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76E1F7-F329-4EF3-8836-DFB87422E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81DBC1-3F9E-493C-B862-7F7977F51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1E892B-311E-4850-8698-DB118B6A4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18916A-E810-473B-857F-6EEB5AB6D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436C6C-6412-4C9C-8D2A-40C0301CC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E76B57-781B-47AE-8E5D-0502C9998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BEB3D-0E1A-4FF0-9C89-0202CDE2BD1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28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sldNum" idx="29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EB3A7-36E4-42C6-92D9-71C6F1C1126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ftr" idx="30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B983E-1EF6-4883-9D01-D834A6066D9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3546F-F1D5-4512-A049-EB47B84C41A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51024-4552-441C-BBB0-0A27A865C5D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258B9-0BCD-4500-97D7-939403FFD18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39C1-24CF-4489-8730-5C7C9519E15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97271-F885-40C5-81D9-1A133F77E4A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sldNum" idx="2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B7005-02C2-4E28-88F8-93F65056408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ftr" idx="2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sldNum" idx="2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19BFF-6942-41AA-AA78-3D4AC853A16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ftr" idx="27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285640" y="1980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Century Schoolbook"/>
              </a:rPr>
              <a:t>ПЛАНЕТА ДОБРОТЫ</a:t>
            </a:r>
            <a:endParaRPr b="0" lang="en-US" sz="7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Маркелова Надежда Викторовн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МОУ-СОШ с.Калининское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Марксовского района Саратовской области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6" descr="17702522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900" spc="-1" strike="noStrike">
                <a:solidFill>
                  <a:srgbClr val="c00000"/>
                </a:solidFill>
                <a:latin typeface="Century Schoolbook"/>
              </a:rPr>
              <a:t>ГОРОД ВЕЖЛИВОСТИ</a:t>
            </a:r>
            <a:endParaRPr b="0" lang="en-US" sz="59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43" name="Picture 12" descr="i_517i"/>
          <p:cNvPicPr/>
          <p:nvPr/>
        </p:nvPicPr>
        <p:blipFill>
          <a:blip r:embed="rId1"/>
          <a:stretch/>
        </p:blipFill>
        <p:spPr>
          <a:xfrm>
            <a:off x="533520" y="1981080"/>
            <a:ext cx="3962160" cy="4408560"/>
          </a:xfrm>
          <a:prstGeom prst="rect">
            <a:avLst/>
          </a:prstGeom>
          <a:ln w="19080">
            <a:solidFill>
              <a:srgbClr val="003300"/>
            </a:solidFill>
            <a:miter/>
          </a:ln>
        </p:spPr>
      </p:pic>
      <p:pic>
        <p:nvPicPr>
          <p:cNvPr id="544" name="Picture 13" descr="album_1604162216_7420"/>
          <p:cNvPicPr/>
          <p:nvPr/>
        </p:nvPicPr>
        <p:blipFill>
          <a:blip r:embed="rId2"/>
          <a:stretch/>
        </p:blipFill>
        <p:spPr>
          <a:xfrm>
            <a:off x="5867280" y="3200400"/>
            <a:ext cx="2117880" cy="254016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18" descr="avatar-270"/>
          <p:cNvPicPr/>
          <p:nvPr/>
        </p:nvPicPr>
        <p:blipFill>
          <a:blip r:embed="rId3"/>
          <a:stretch/>
        </p:blipFill>
        <p:spPr>
          <a:xfrm rot="21096000">
            <a:off x="4935600" y="226800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entury Schoolbook"/>
              </a:rPr>
              <a:t>ДОГОВОРИ СЛОВЕЧКО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. Растает даже ледяная глыба от слова теплого…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2. Зазеленеет старый пень, когда услышит…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3. Мальчик, вежливый и развитый говорит,встречаясь…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4.  Когда нас бранят за шалости, говорим …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5. И во Франции, и в Дании на прощанье говорят …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4" descr="17704056_7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22320">
            <a:solidFill>
              <a:srgbClr val="ffff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331640" y="2707920"/>
            <a:ext cx="71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1" lang="ru-RU" sz="8000" spc="-1" strike="noStrike">
                <a:solidFill>
                  <a:srgbClr val="c00000"/>
                </a:solidFill>
                <a:latin typeface="Century Schoolbook"/>
              </a:rPr>
              <a:t>МЫС КУЛЬТУРЫ</a:t>
            </a:r>
            <a:endParaRPr b="0" lang="en-US" sz="8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50" name="Picture 15" descr="3b79bb89fd4298bb6ff2fd106001da79"/>
          <p:cNvPicPr/>
          <p:nvPr/>
        </p:nvPicPr>
        <p:blipFill>
          <a:blip r:embed="rId1"/>
          <a:stretch/>
        </p:blipFill>
        <p:spPr>
          <a:xfrm>
            <a:off x="2209680" y="4038480"/>
            <a:ext cx="4297320" cy="216540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11" descr="album_1604162216_5663"/>
          <p:cNvPicPr/>
          <p:nvPr/>
        </p:nvPicPr>
        <p:blipFill>
          <a:blip r:embed="rId2"/>
          <a:stretch/>
        </p:blipFill>
        <p:spPr>
          <a:xfrm>
            <a:off x="5435640" y="228600"/>
            <a:ext cx="233676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entury Schoolbook"/>
              </a:rPr>
              <a:t>МЫС КУЛЬТУРЫ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 u="sng">
                <a:solidFill>
                  <a:srgbClr val="000000"/>
                </a:solidFill>
                <a:uFillTx/>
                <a:latin typeface="Century Schoolbook"/>
              </a:rPr>
              <a:t>    </a:t>
            </a:r>
            <a:r>
              <a:rPr b="1" lang="ru-RU" sz="3300" spc="-1" strike="noStrike" u="sng">
                <a:solidFill>
                  <a:srgbClr val="000000"/>
                </a:solidFill>
                <a:uFillTx/>
                <a:latin typeface="Century Schoolbook"/>
              </a:rPr>
              <a:t>Ситуация 1.</a:t>
            </a:r>
            <a:r>
              <a:rPr b="1" lang="ru-RU" sz="33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ru-RU" sz="3300" spc="-1" strike="noStrike">
                <a:solidFill>
                  <a:srgbClr val="000000"/>
                </a:solidFill>
                <a:latin typeface="Century Schoolbook"/>
              </a:rPr>
              <a:t>Девочка возмущенно жаловалась маме: “Во дворе есть такой плохой мальчик – все время зовет меня Валькой”. “А ты как его зовешь?” – спросила мама. “Я его вообще никак не зову. Я ему просто кричу: “Эй, ты!” 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ru-RU" sz="3300" spc="-1" strike="noStrike">
                <a:solidFill>
                  <a:srgbClr val="000000"/>
                </a:solidFill>
                <a:latin typeface="Century Schoolbook"/>
              </a:rPr>
              <a:t>Права ли была девочка?</a:t>
            </a:r>
            <a:r>
              <a:rPr b="1" lang="ru-RU" sz="33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entury Schoolbook"/>
              </a:rPr>
              <a:t>МЫС КУЛЬТУРЫ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entury Schoolbook"/>
              </a:rPr>
              <a:t>  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Century Schoolbook"/>
              </a:rPr>
              <a:t>Ситуация 2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Мальчик крикнул прохожему “Сколько время?”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Какие ошибки допустил мальчик?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entury Schoolbook"/>
              </a:rPr>
              <a:t>МЫС КУЛЬТУРЫ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entury Schoolbook"/>
              </a:rPr>
              <a:t>Ситуация 3.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entury Schoolbook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В школьном коридоре разговаривают 2 учителя. Среди них Катя увидела свою учительницу и вежливо поздоровалась только с ней: “Здравствуйте, Ольга Ивановна!” Правильно ли поступила девочка?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21" descr="17770810_3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344000"/>
          </a:xfrm>
          <a:prstGeom prst="rect">
            <a:avLst/>
          </a:prstGeom>
          <a:ln w="0">
            <a:noFill/>
          </a:ln>
        </p:spPr>
      </p:pic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cc66"/>
                </a:solidFill>
                <a:latin typeface="Comic Sans MS"/>
              </a:rPr>
              <a:t>СКАЗОЧНАЯ ДОЛИНА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4" descr="Картинка 477 из 5938"/>
          <p:cNvPicPr/>
          <p:nvPr/>
        </p:nvPicPr>
        <p:blipFill>
          <a:blip r:embed="rId1"/>
          <a:stretch/>
        </p:blipFill>
        <p:spPr>
          <a:xfrm>
            <a:off x="250920" y="189000"/>
            <a:ext cx="5921280" cy="202068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5" descr="Картинка 499 из 5938"/>
          <p:cNvPicPr/>
          <p:nvPr/>
        </p:nvPicPr>
        <p:blipFill>
          <a:blip r:embed="rId2"/>
          <a:stretch/>
        </p:blipFill>
        <p:spPr>
          <a:xfrm>
            <a:off x="2843280" y="2852640"/>
            <a:ext cx="5111640" cy="3706920"/>
          </a:xfrm>
          <a:prstGeom prst="rect">
            <a:avLst/>
          </a:prstGeom>
          <a:ln w="0">
            <a:noFill/>
          </a:ln>
        </p:spPr>
      </p:pic>
      <p:pic>
        <p:nvPicPr>
          <p:cNvPr id="562" name="Рисунок 8" descr="http://t3.gstatic.com/images?q=tbn:ANd9GcRIb9ib3NsAE5n9lXDunoxD0YNp1GcUCkDMHU3n0lCJyN3cbbzts8AgoGU"/>
          <p:cNvPicPr/>
          <p:nvPr/>
        </p:nvPicPr>
        <p:blipFill>
          <a:blip r:embed="rId3"/>
          <a:stretch/>
        </p:blipFill>
        <p:spPr>
          <a:xfrm>
            <a:off x="0" y="2852640"/>
            <a:ext cx="2079720" cy="3672000"/>
          </a:xfrm>
          <a:prstGeom prst="rect">
            <a:avLst/>
          </a:prstGeom>
          <a:ln w="0">
            <a:noFill/>
          </a:ln>
        </p:spPr>
      </p:pic>
      <p:pic>
        <p:nvPicPr>
          <p:cNvPr id="563" name="Рисунок 11" descr="http://t3.gstatic.com/images?q=tbn:ANd9GcSW71Lq10NPgt2QQTXPT1K4kaj3hzwnNt-WKOY4OOCRP4XavUopxQ"/>
          <p:cNvPicPr/>
          <p:nvPr/>
        </p:nvPicPr>
        <p:blipFill>
          <a:blip r:embed="rId4"/>
          <a:stretch/>
        </p:blipFill>
        <p:spPr>
          <a:xfrm>
            <a:off x="1908000" y="2852640"/>
            <a:ext cx="2213280" cy="3667320"/>
          </a:xfrm>
          <a:prstGeom prst="rect">
            <a:avLst/>
          </a:prstGeom>
          <a:ln w="0">
            <a:noFill/>
          </a:ln>
        </p:spPr>
      </p:pic>
      <p:pic>
        <p:nvPicPr>
          <p:cNvPr id="564" name="Рисунок 10" descr="http://knigorub.com/images/1289455280334_Lyubimye_skazki_SHarlya_Perro_(audiokniga).jpg"/>
          <p:cNvPicPr/>
          <p:nvPr/>
        </p:nvPicPr>
        <p:blipFill>
          <a:blip r:embed="rId5"/>
          <a:stretch/>
        </p:blipFill>
        <p:spPr>
          <a:xfrm>
            <a:off x="6324480" y="0"/>
            <a:ext cx="2195640" cy="2857680"/>
          </a:xfrm>
          <a:prstGeom prst="rect">
            <a:avLst/>
          </a:prstGeom>
          <a:ln w="0">
            <a:noFill/>
          </a:ln>
        </p:spPr>
      </p:pic>
      <p:pic>
        <p:nvPicPr>
          <p:cNvPr id="565" name="Рисунок 6" descr="http://t1.gstatic.com/images?q=tbn:ANd9GcQ7kumeQcal3PmCLxY2YEIfgp12JHRb4gWGKDrhBDBET9NdfANVevPiAhJyFA"/>
          <p:cNvPicPr/>
          <p:nvPr/>
        </p:nvPicPr>
        <p:blipFill>
          <a:blip r:embed="rId6"/>
          <a:stretch/>
        </p:blipFill>
        <p:spPr>
          <a:xfrm>
            <a:off x="6767640" y="3068640"/>
            <a:ext cx="2376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4" descr="17704272_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22320">
            <a:solidFill>
              <a:srgbClr val="ffff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ff33"/>
                </a:solidFill>
                <a:latin typeface="Century Schoolbook"/>
              </a:rPr>
              <a:t>ДЕРЕВО ТРЕТЬЕ</a:t>
            </a:r>
            <a:br>
              <a:rPr sz="3000"/>
            </a:b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«ДОБРЫЕ СКАЗКИ»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67" name="Picture 7" descr="D:\разное\сказочные герои\img667.jpg"/>
          <p:cNvPicPr/>
          <p:nvPr/>
        </p:nvPicPr>
        <p:blipFill>
          <a:blip r:embed="rId1"/>
          <a:stretch/>
        </p:blipFill>
        <p:spPr>
          <a:xfrm>
            <a:off x="428760" y="1857240"/>
            <a:ext cx="3063600" cy="459612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5" descr="D:\разное\сказочные герои\img668.jpg"/>
          <p:cNvPicPr/>
          <p:nvPr/>
        </p:nvPicPr>
        <p:blipFill>
          <a:blip r:embed="rId2"/>
          <a:stretch/>
        </p:blipFill>
        <p:spPr>
          <a:xfrm>
            <a:off x="4643280" y="1989000"/>
            <a:ext cx="309564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00000"/>
                </a:solidFill>
                <a:latin typeface="Comic Sans MS"/>
              </a:rPr>
              <a:t>ДОБРАЯ ЗЕМЛЯ</a:t>
            </a:r>
            <a:endParaRPr b="0" lang="en-US" sz="8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70" name="Picture 2" descr="http://ryazan-gorod.ru/wp-content/uploads/2012/11/Earth_auctioned.jpg"/>
          <p:cNvPicPr/>
          <p:nvPr/>
        </p:nvPicPr>
        <p:blipFill>
          <a:blip r:embed="rId1"/>
          <a:stretch/>
        </p:blipFill>
        <p:spPr>
          <a:xfrm>
            <a:off x="1828800" y="1486080"/>
            <a:ext cx="457200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14" descr="15098937_lepestki_6"/>
          <p:cNvPicPr/>
          <p:nvPr/>
        </p:nvPicPr>
        <p:blipFill>
          <a:blip r:embed="rId1"/>
          <a:stretch/>
        </p:blipFill>
        <p:spPr>
          <a:xfrm>
            <a:off x="2362320" y="3733920"/>
            <a:ext cx="4105080" cy="2914560"/>
          </a:xfrm>
          <a:prstGeom prst="rect">
            <a:avLst/>
          </a:prstGeom>
          <a:ln w="0">
            <a:noFill/>
          </a:ln>
        </p:spPr>
      </p:pic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3964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ДОБРЫЕ СЛОВА – КОРНИ.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ДОБРЫЕ МЫСЛИ – ЦВЕТЫ.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ДОБРЫЕ ДЕЛА – ПЛОДЫ.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ДОБРЫЕ СЕРДЦА – САДЫ.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5" descr="Изображение 123"/>
          <p:cNvPicPr/>
          <p:nvPr/>
        </p:nvPicPr>
        <p:blipFill>
          <a:blip r:embed="rId1"/>
          <a:stretch/>
        </p:blipFill>
        <p:spPr>
          <a:xfrm>
            <a:off x="3271680" y="0"/>
            <a:ext cx="5872320" cy="662940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 txBox="1"/>
          <p:nvPr/>
        </p:nvSpPr>
        <p:spPr>
          <a:xfrm>
            <a:off x="0" y="0"/>
            <a:ext cx="46483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5" name="WordArt 11"/>
          <p:cNvSpPr txBox="1"/>
          <p:nvPr/>
        </p:nvSpPr>
        <p:spPr>
          <a:xfrm>
            <a:off x="533520" y="228600"/>
            <a:ext cx="2286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ебята,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6" name="WordArt 12"/>
          <p:cNvSpPr txBox="1"/>
          <p:nvPr/>
        </p:nvSpPr>
        <p:spPr>
          <a:xfrm>
            <a:off x="228600" y="1676520"/>
            <a:ext cx="28195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авайт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7" name="WordArt 13"/>
          <p:cNvSpPr txBox="1"/>
          <p:nvPr/>
        </p:nvSpPr>
        <p:spPr>
          <a:xfrm>
            <a:off x="533520" y="3352680"/>
            <a:ext cx="2133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удем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8" name="WordArt 14"/>
          <p:cNvSpPr txBox="1"/>
          <p:nvPr/>
        </p:nvSpPr>
        <p:spPr>
          <a:xfrm>
            <a:off x="152280" y="5029200"/>
            <a:ext cx="34290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обрыми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9640" y="2707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900" spc="-1" strike="noStrike">
                <a:solidFill>
                  <a:srgbClr val="522900"/>
                </a:solidFill>
                <a:latin typeface="Monotype Corsiva"/>
              </a:rPr>
              <a:t>ДОБРОТА – ЭТО</a:t>
            </a:r>
            <a:r>
              <a:rPr b="0" lang="ru-RU" sz="7900" spc="-1" strike="noStrike">
                <a:solidFill>
                  <a:srgbClr val="522900"/>
                </a:solidFill>
                <a:latin typeface="Monotype Corsiva"/>
              </a:rPr>
              <a:t>…</a:t>
            </a:r>
            <a:endParaRPr b="0" lang="en-US" sz="79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03" name="Picture 9" descr="2bbec370481cef88e9d1b45d7744276f"/>
          <p:cNvPicPr/>
          <p:nvPr/>
        </p:nvPicPr>
        <p:blipFill>
          <a:blip r:embed="rId1"/>
          <a:stretch/>
        </p:blipFill>
        <p:spPr>
          <a:xfrm>
            <a:off x="5508720" y="4292640"/>
            <a:ext cx="1390680" cy="160020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11" descr="s1"/>
          <p:cNvPicPr/>
          <p:nvPr/>
        </p:nvPicPr>
        <p:blipFill>
          <a:blip r:embed="rId2"/>
          <a:stretch/>
        </p:blipFill>
        <p:spPr>
          <a:xfrm rot="21207000">
            <a:off x="1320480" y="631800"/>
            <a:ext cx="183996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WordArt 4"/>
          <p:cNvSpPr txBox="1"/>
          <p:nvPr/>
        </p:nvSpPr>
        <p:spPr>
          <a:xfrm>
            <a:off x="3124080" y="2743200"/>
            <a:ext cx="27432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ОБРОТ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6" name="WordArt 11"/>
          <p:cNvSpPr txBox="1"/>
          <p:nvPr/>
        </p:nvSpPr>
        <p:spPr>
          <a:xfrm>
            <a:off x="380880" y="3733920"/>
            <a:ext cx="19051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асо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7" name="WordArt 12"/>
          <p:cNvSpPr txBox="1"/>
          <p:nvPr/>
        </p:nvSpPr>
        <p:spPr>
          <a:xfrm>
            <a:off x="7238880" y="4572000"/>
            <a:ext cx="1600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м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8" name="WordArt 13"/>
          <p:cNvSpPr txBox="1"/>
          <p:nvPr/>
        </p:nvSpPr>
        <p:spPr>
          <a:xfrm>
            <a:off x="4267080" y="4495680"/>
            <a:ext cx="1676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емь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9" name="WordArt 14"/>
          <p:cNvSpPr txBox="1"/>
          <p:nvPr/>
        </p:nvSpPr>
        <p:spPr>
          <a:xfrm>
            <a:off x="304920" y="2438280"/>
            <a:ext cx="2057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дость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0" name="WordArt 15"/>
          <p:cNvSpPr txBox="1"/>
          <p:nvPr/>
        </p:nvSpPr>
        <p:spPr>
          <a:xfrm>
            <a:off x="5181480" y="1066680"/>
            <a:ext cx="2590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аздни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1" name="WordArt 16"/>
          <p:cNvSpPr txBox="1"/>
          <p:nvPr/>
        </p:nvSpPr>
        <p:spPr>
          <a:xfrm>
            <a:off x="380880" y="4876920"/>
            <a:ext cx="19814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юбов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2" name="WordArt 17"/>
          <p:cNvSpPr txBox="1"/>
          <p:nvPr/>
        </p:nvSpPr>
        <p:spPr>
          <a:xfrm>
            <a:off x="7010280" y="1981080"/>
            <a:ext cx="16765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изн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3" name="WordArt 18"/>
          <p:cNvSpPr txBox="1"/>
          <p:nvPr/>
        </p:nvSpPr>
        <p:spPr>
          <a:xfrm>
            <a:off x="3352680" y="228600"/>
            <a:ext cx="19814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часть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4" name="WordArt 19"/>
          <p:cNvSpPr txBox="1"/>
          <p:nvPr/>
        </p:nvSpPr>
        <p:spPr>
          <a:xfrm>
            <a:off x="533520" y="1143000"/>
            <a:ext cx="2971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ушевност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5" name="WordArt 20"/>
          <p:cNvSpPr txBox="1"/>
          <p:nvPr/>
        </p:nvSpPr>
        <p:spPr>
          <a:xfrm>
            <a:off x="5943600" y="5486400"/>
            <a:ext cx="1600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ас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6" name="WordArt 21"/>
          <p:cNvSpPr txBox="1"/>
          <p:nvPr/>
        </p:nvSpPr>
        <p:spPr>
          <a:xfrm>
            <a:off x="7162920" y="3124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пл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7" name="WordArt 22"/>
          <p:cNvSpPr txBox="1"/>
          <p:nvPr/>
        </p:nvSpPr>
        <p:spPr>
          <a:xfrm>
            <a:off x="2666880" y="5486400"/>
            <a:ext cx="19814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бо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8" name="Line 23"/>
          <p:cNvSpPr/>
          <p:nvPr/>
        </p:nvSpPr>
        <p:spPr>
          <a:xfrm flipH="1" flipV="1">
            <a:off x="3123720" y="1904760"/>
            <a:ext cx="3812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25"/>
          <p:cNvSpPr/>
          <p:nvPr/>
        </p:nvSpPr>
        <p:spPr>
          <a:xfrm flipV="1">
            <a:off x="4267080" y="10666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26"/>
          <p:cNvSpPr/>
          <p:nvPr/>
        </p:nvSpPr>
        <p:spPr>
          <a:xfrm flipV="1">
            <a:off x="5105520" y="1828440"/>
            <a:ext cx="3808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27"/>
          <p:cNvSpPr/>
          <p:nvPr/>
        </p:nvSpPr>
        <p:spPr>
          <a:xfrm flipV="1">
            <a:off x="6019920" y="23623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28"/>
          <p:cNvSpPr/>
          <p:nvPr/>
        </p:nvSpPr>
        <p:spPr>
          <a:xfrm>
            <a:off x="6019920" y="3352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29"/>
          <p:cNvSpPr/>
          <p:nvPr/>
        </p:nvSpPr>
        <p:spPr>
          <a:xfrm>
            <a:off x="6019920" y="3733920"/>
            <a:ext cx="10666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30"/>
          <p:cNvSpPr/>
          <p:nvPr/>
        </p:nvSpPr>
        <p:spPr>
          <a:xfrm>
            <a:off x="518148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31"/>
          <p:cNvSpPr/>
          <p:nvPr/>
        </p:nvSpPr>
        <p:spPr>
          <a:xfrm flipH="1">
            <a:off x="3657240" y="4038480"/>
            <a:ext cx="22860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32"/>
          <p:cNvSpPr/>
          <p:nvPr/>
        </p:nvSpPr>
        <p:spPr>
          <a:xfrm flipH="1">
            <a:off x="2285640" y="411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33"/>
          <p:cNvSpPr/>
          <p:nvPr/>
        </p:nvSpPr>
        <p:spPr>
          <a:xfrm flipH="1">
            <a:off x="2361960" y="327672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34"/>
          <p:cNvSpPr/>
          <p:nvPr/>
        </p:nvSpPr>
        <p:spPr>
          <a:xfrm flipH="1" flipV="1">
            <a:off x="2286000" y="2666520"/>
            <a:ext cx="838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35"/>
          <p:cNvSpPr/>
          <p:nvPr/>
        </p:nvSpPr>
        <p:spPr>
          <a:xfrm>
            <a:off x="5867280" y="4038480"/>
            <a:ext cx="7621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entury Schoolbook"/>
              </a:rPr>
              <a:t>ИЗ СЛОВАРЯ  С.И.ОЖЕГОВА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456840" y="1600200"/>
            <a:ext cx="80773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entury Schoolbook"/>
              </a:rPr>
              <a:t>Доброта 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– </a:t>
            </a: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это отзывчивость, душевное расположение к людям, стремление делать добро другим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14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4400" spc="-1" strike="noStrike">
                <a:solidFill>
                  <a:srgbClr val="ff0000"/>
                </a:solidFill>
                <a:latin typeface="Century Schoolbook"/>
              </a:rPr>
              <a:t>«ГДЕ СПРЯТАЛОСЬ ДОБРО»</a:t>
            </a: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394920" y="1628280"/>
            <a:ext cx="8209080" cy="50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0000"/>
                </a:solidFill>
                <a:uFillTx/>
                <a:latin typeface="Century Schoolbook"/>
              </a:rPr>
              <a:t>Добро</a:t>
            </a:r>
            <a:r>
              <a:rPr b="1" lang="ru-RU" sz="4800" spc="-1" strike="noStrike">
                <a:solidFill>
                  <a:srgbClr val="7030a0"/>
                </a:solidFill>
                <a:latin typeface="Century Schoolbook"/>
              </a:rPr>
              <a:t>та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0000"/>
                </a:solidFill>
                <a:uFillTx/>
                <a:latin typeface="Century Schoolbook"/>
              </a:rPr>
              <a:t>Добро</a:t>
            </a:r>
            <a:r>
              <a:rPr b="1" lang="ru-RU" sz="4800" spc="-1" strike="noStrike">
                <a:solidFill>
                  <a:srgbClr val="7030a0"/>
                </a:solidFill>
                <a:latin typeface="Century Schoolbook"/>
              </a:rPr>
              <a:t>душный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0000"/>
                </a:solidFill>
                <a:uFillTx/>
                <a:latin typeface="Century Schoolbook"/>
              </a:rPr>
              <a:t>Добро</a:t>
            </a:r>
            <a:r>
              <a:rPr b="1" lang="ru-RU" sz="4800" spc="-1" strike="noStrike">
                <a:solidFill>
                  <a:srgbClr val="7030a0"/>
                </a:solidFill>
                <a:latin typeface="Century Schoolbook"/>
              </a:rPr>
              <a:t>сердечный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0000"/>
                </a:solidFill>
                <a:uFillTx/>
                <a:latin typeface="Century Schoolbook"/>
              </a:rPr>
              <a:t>Добро</a:t>
            </a:r>
            <a:r>
              <a:rPr b="1" lang="ru-RU" sz="4800" spc="-1" strike="noStrike">
                <a:solidFill>
                  <a:srgbClr val="7030a0"/>
                </a:solidFill>
                <a:latin typeface="Century Schoolbook"/>
              </a:rPr>
              <a:t>желательный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0000"/>
                </a:solidFill>
                <a:uFillTx/>
                <a:latin typeface="Century Schoolbook"/>
              </a:rPr>
              <a:t>Добро</a:t>
            </a:r>
            <a:r>
              <a:rPr b="1" lang="ru-RU" sz="4800" spc="-1" strike="noStrike">
                <a:solidFill>
                  <a:srgbClr val="7030a0"/>
                </a:solidFill>
                <a:latin typeface="Century Schoolbook"/>
              </a:rPr>
              <a:t>совестный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0000"/>
                </a:solidFill>
                <a:uFillTx/>
                <a:latin typeface="Century Schoolbook"/>
              </a:rPr>
              <a:t>Добро</a:t>
            </a:r>
            <a:r>
              <a:rPr b="1" lang="ru-RU" sz="4800" spc="-1" strike="noStrike">
                <a:solidFill>
                  <a:srgbClr val="244583"/>
                </a:solidFill>
                <a:latin typeface="Century Schoolbook"/>
              </a:rPr>
              <a:t>соседский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68360" y="2133360"/>
            <a:ext cx="713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1" lang="ru-RU" sz="7200" spc="-1" strike="noStrike">
                <a:solidFill>
                  <a:srgbClr val="000066"/>
                </a:solidFill>
                <a:latin typeface="Comic Sans MS"/>
              </a:rPr>
              <a:t>ПУТЕШЕСТВИЕ В МИР ДОБРОТЫ</a:t>
            </a:r>
            <a:endParaRPr b="0" lang="en-US" sz="7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35" name="Picture 14" descr="Сингапур"/>
          <p:cNvPicPr/>
          <p:nvPr/>
        </p:nvPicPr>
        <p:blipFill>
          <a:blip r:embed="rId1"/>
          <a:stretch/>
        </p:blipFill>
        <p:spPr>
          <a:xfrm>
            <a:off x="533520" y="3657600"/>
            <a:ext cx="3968640" cy="2644920"/>
          </a:xfrm>
          <a:prstGeom prst="rect">
            <a:avLst/>
          </a:prstGeom>
          <a:ln w="19080">
            <a:solidFill>
              <a:srgbClr val="336699"/>
            </a:solidFill>
            <a:miter/>
          </a:ln>
        </p:spPr>
      </p:pic>
      <p:pic>
        <p:nvPicPr>
          <p:cNvPr id="536" name="Picture 15" descr="clip_image003"/>
          <p:cNvPicPr/>
          <p:nvPr/>
        </p:nvPicPr>
        <p:blipFill>
          <a:blip r:embed="rId2"/>
          <a:stretch/>
        </p:blipFill>
        <p:spPr>
          <a:xfrm>
            <a:off x="4876920" y="4114800"/>
            <a:ext cx="2411280" cy="16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8" descr="Sandy_Island_Anguill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755280" y="3284280"/>
            <a:ext cx="770724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00"/>
                </a:solidFill>
                <a:latin typeface="Comic Sans MS"/>
              </a:rPr>
              <a:t>ОСТРОВ ПОСЛОВИЦ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 txBox="1"/>
          <p:nvPr/>
        </p:nvSpPr>
        <p:spPr>
          <a:xfrm>
            <a:off x="-360" y="1371240"/>
            <a:ext cx="84582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Доброе слово человеку, что дождь в засуху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Жизнь дана на добрые дела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Доброе слово и кошке приятно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Не одежда красит человека, а его добрые дела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Не хвались серебром, а хвались добром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Кто добро творит, того Бог отблагодарит.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0" name="Прямоугольник 3"/>
          <p:cNvSpPr/>
          <p:nvPr/>
        </p:nvSpPr>
        <p:spPr>
          <a:xfrm>
            <a:off x="562320" y="380880"/>
            <a:ext cx="758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Собери пословиц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дежда</cp:lastModifiedBy>
  <dcterms:modified xsi:type="dcterms:W3CDTF">2015-12-16T04:36:29Z</dcterms:modified>
  <cp:revision>9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